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0.jpeg" ContentType="image/jpeg"/>
  <Override PartName="/ppt/media/image28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3.png" ContentType="image/png"/>
  <Override PartName="/ppt/media/image14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11.png" ContentType="image/pn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50.jpeg" ContentType="image/jpeg"/>
  <Override PartName="/ppt/media/image5.png" ContentType="image/png"/>
  <Override PartName="/ppt/media/image43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3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FBC6-9299-4AEF-82B1-F60648B6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96D-9256-49C8-AA41-09F30A46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2D6-212A-4153-B93A-690AE521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4B80-0AB2-41F0-87A5-70DB3DEB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C79-D45B-40A7-898F-1E38CC96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624-1064-4DA1-8C61-513EF58B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6B12-3F48-43EF-AA89-8B7D862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883-BC42-4768-85FF-35A22EFB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4D0-7E47-423B-A2C9-4FD08FF5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130-BA2B-4626-9346-0F22B37C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0189-C2F4-4F6B-AD2A-0F94891D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4FD-304A-419B-B78B-2803AD5F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D9AF-4E62-497B-82F8-85D6228E10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lcorn.com/index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alesis.com/index.php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atlassound.com/index.cfm" TargetMode="External"/><Relationship Id="rId6" Type="http://schemas.openxmlformats.org/officeDocument/2006/relationships/image" Target="../media/image12.png"/><Relationship Id="rId7" Type="http://schemas.openxmlformats.org/officeDocument/2006/relationships/hyperlink" Target="http://www.audiosource.net/2005/index.html" TargetMode="External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hyperlink" Target="http://www.bostonacoustics.com/default.aspx" TargetMode="External"/><Relationship Id="rId12" Type="http://schemas.openxmlformats.org/officeDocument/2006/relationships/image" Target="../media/image16.png"/><Relationship Id="rId13" Type="http://schemas.openxmlformats.org/officeDocument/2006/relationships/hyperlink" Target="http://www.channelvision.com/index" TargetMode="External"/><Relationship Id="rId14" Type="http://schemas.openxmlformats.org/officeDocument/2006/relationships/image" Target="../media/image17.jpeg"/><Relationship Id="rId15" Type="http://schemas.openxmlformats.org/officeDocument/2006/relationships/hyperlink" Target="mailto:jnelson@cedia.org?subject=CEDIA%20Member%20Concierge%20Service" TargetMode="External"/><Relationship Id="rId16" Type="http://schemas.openxmlformats.org/officeDocument/2006/relationships/image" Target="../media/image18.jpeg"/><Relationship Id="rId17" Type="http://schemas.openxmlformats.org/officeDocument/2006/relationships/hyperlink" Target="http://www.citrix.com/lang/English/home.asp" TargetMode="External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nergy-speakers.com/v2/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www.electrovoice.com/index.php" TargetMode="External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hyperlink" Target="http://www.monacor.com/int/en/gesamtprogramm.php?spr=EN&amp;brand=MI" TargetMode="External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jpeg"/><Relationship Id="rId13" Type="http://schemas.openxmlformats.org/officeDocument/2006/relationships/hyperlink" Target="http://www.numark.com/" TargetMode="External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jpeg"/><Relationship Id="rId17" Type="http://schemas.openxmlformats.org/officeDocument/2006/relationships/image" Target="../media/image3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hyperlink" Target="http://www.toachina.com.cn/index.asp" TargetMode="External"/><Relationship Id="rId5" Type="http://schemas.openxmlformats.org/officeDocument/2006/relationships/image" Target="../media/image39.jpeg"/><Relationship Id="rId6" Type="http://schemas.openxmlformats.org/officeDocument/2006/relationships/hyperlink" Target="http://www.visaton.com/en/index.html" TargetMode="External"/><Relationship Id="rId7" Type="http://schemas.openxmlformats.org/officeDocument/2006/relationships/image" Target="../media/image40.png"/><Relationship Id="rId8" Type="http://schemas.openxmlformats.org/officeDocument/2006/relationships/hyperlink" Target="http://www.vietapro.com/site/index.php" TargetMode="External"/><Relationship Id="rId9" Type="http://schemas.openxmlformats.org/officeDocument/2006/relationships/image" Target="../media/image41.png"/><Relationship Id="rId10" Type="http://schemas.openxmlformats.org/officeDocument/2006/relationships/hyperlink" Target="http://www.vodavi.com/default.asp" TargetMode="External"/><Relationship Id="rId11" Type="http://schemas.openxmlformats.org/officeDocument/2006/relationships/image" Target="../media/image42.png"/><Relationship Id="rId12" Type="http://schemas.openxmlformats.org/officeDocument/2006/relationships/image" Target="../media/image43.jpeg"/><Relationship Id="rId13" Type="http://schemas.openxmlformats.org/officeDocument/2006/relationships/image" Target="../media/image44.png"/><Relationship Id="rId14" Type="http://schemas.openxmlformats.org/officeDocument/2006/relationships/image" Target="../media/image45.png"/><Relationship Id="rId15" Type="http://schemas.openxmlformats.org/officeDocument/2006/relationships/image" Target="../media/image46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0"/>
            <a:ext cx="3200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我们比较喜欢的字体和图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We prefer the font and ic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00240" y="3581280"/>
            <a:ext cx="2152440" cy="876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14288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47920" y="4876920"/>
            <a:ext cx="1704960" cy="552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295280" y="99072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467480" y="228600"/>
            <a:ext cx="1428840" cy="5905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809880" y="5029200"/>
            <a:ext cx="3143520" cy="533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029200" y="990720"/>
            <a:ext cx="1371600" cy="1110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蓝色快车"/>
          <p:cNvPicPr/>
          <p:nvPr/>
        </p:nvPicPr>
        <p:blipFill>
          <a:blip r:embed="rId9"/>
          <a:stretch/>
        </p:blipFill>
        <p:spPr>
          <a:xfrm>
            <a:off x="5029200" y="2590920"/>
            <a:ext cx="1428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43080"/>
            <a:ext cx="1171440" cy="102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581120"/>
            <a:ext cx="1428840" cy="93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AtlasSound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35360"/>
            <a:ext cx="1981080" cy="74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3943440"/>
            <a:ext cx="2028960" cy="1238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133720" y="1600200"/>
            <a:ext cx="3352680" cy="880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3533760" y="4229280"/>
            <a:ext cx="187632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971800" y="5486400"/>
            <a:ext cx="1228680" cy="581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hannel Vision Technolog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715000" y="1752480"/>
            <a:ext cx="32004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477120" y="2819520"/>
            <a:ext cx="1904760" cy="1885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Citrix Logo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105680" y="5092560"/>
            <a:ext cx="1504800" cy="1003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Real Image"/>
          <p:cNvPicPr/>
          <p:nvPr/>
        </p:nvPicPr>
        <p:blipFill>
          <a:blip r:embed="rId19"/>
          <a:stretch/>
        </p:blipFill>
        <p:spPr>
          <a:xfrm>
            <a:off x="3352680" y="2895480"/>
            <a:ext cx="1981440" cy="990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0"/>
          <a:stretch/>
        </p:blipFill>
        <p:spPr>
          <a:xfrm>
            <a:off x="304920" y="5562720"/>
            <a:ext cx="2314440" cy="55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1"/>
          <a:stretch/>
        </p:blipFill>
        <p:spPr>
          <a:xfrm>
            <a:off x="5029200" y="5410080"/>
            <a:ext cx="1666800" cy="64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8120" y="228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2590920"/>
            <a:ext cx="213336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990720"/>
            <a:ext cx="1828800" cy="457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05320" y="914400"/>
            <a:ext cx="2743200" cy="650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logo: Official ADT UK Security Company for Home and Business Security Services"/>
          <p:cNvPicPr/>
          <p:nvPr/>
        </p:nvPicPr>
        <p:blipFill>
          <a:blip r:embed="rId6"/>
          <a:stretch/>
        </p:blipFill>
        <p:spPr>
          <a:xfrm>
            <a:off x="1143000" y="2590920"/>
            <a:ext cx="838080" cy="614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Kaleidescape Logotype"/>
          <p:cNvPicPr/>
          <p:nvPr/>
        </p:nvPicPr>
        <p:blipFill>
          <a:blip r:embed="rId7"/>
          <a:stretch/>
        </p:blipFill>
        <p:spPr>
          <a:xfrm>
            <a:off x="762120" y="1905120"/>
            <a:ext cx="1657080" cy="266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3429000" y="1828800"/>
            <a:ext cx="2762280" cy="533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933480" y="3276720"/>
            <a:ext cx="1428840" cy="857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6981840" y="990720"/>
            <a:ext cx="1933560" cy="371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6172200" y="5334120"/>
            <a:ext cx="2971800" cy="72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Numark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1752480"/>
            <a:ext cx="11048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Salzbrenner-Stagetec Mediagroup Logo"/>
          <p:cNvPicPr/>
          <p:nvPr/>
        </p:nvPicPr>
        <p:blipFill>
          <a:blip r:embed="rId15"/>
          <a:stretch/>
        </p:blipFill>
        <p:spPr>
          <a:xfrm>
            <a:off x="7315200" y="3657600"/>
            <a:ext cx="1285920" cy="1038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PROMATRIX SYSTEM"/>
          <p:cNvPicPr/>
          <p:nvPr/>
        </p:nvPicPr>
        <p:blipFill>
          <a:blip r:embed="rId16"/>
          <a:stretch/>
        </p:blipFill>
        <p:spPr>
          <a:xfrm>
            <a:off x="76320" y="4218120"/>
            <a:ext cx="5943600" cy="2563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Bogen Logo"/>
          <p:cNvPicPr/>
          <p:nvPr/>
        </p:nvPicPr>
        <p:blipFill>
          <a:blip r:embed="rId17"/>
          <a:stretch/>
        </p:blipFill>
        <p:spPr>
          <a:xfrm>
            <a:off x="2819520" y="2743200"/>
            <a:ext cx="4038480" cy="107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228600"/>
            <a:ext cx="40384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523880" cy="133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809880" cy="1333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e Security Pro"/>
          <p:cNvPicPr/>
          <p:nvPr/>
        </p:nvPicPr>
        <p:blipFill>
          <a:blip r:embed="rId3"/>
          <a:stretch/>
        </p:blipFill>
        <p:spPr>
          <a:xfrm>
            <a:off x="838080" y="2286000"/>
            <a:ext cx="1990800" cy="561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TOA Corporatio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429000" y="2590920"/>
            <a:ext cx="1428840" cy="666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Visato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38080" y="3390840"/>
            <a:ext cx="1581120" cy="34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Vieta Professional Sound System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3657600"/>
            <a:ext cx="1400040" cy="44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657600" y="4419720"/>
            <a:ext cx="137160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6629400" y="4495680"/>
            <a:ext cx="1428840" cy="800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762120" y="5334120"/>
            <a:ext cx="1428480" cy="1038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685800" y="4343400"/>
            <a:ext cx="1666800" cy="600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Superscope: Make Great Music"/>
          <p:cNvPicPr/>
          <p:nvPr/>
        </p:nvPicPr>
        <p:blipFill>
          <a:blip r:embed="rId15"/>
          <a:stretch/>
        </p:blipFill>
        <p:spPr>
          <a:xfrm>
            <a:off x="3429000" y="5638680"/>
            <a:ext cx="5095800" cy="62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8120" y="228600"/>
            <a:ext cx="487656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其它同行的商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Other  trademarks in the same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53352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28600" y="3462480"/>
            <a:ext cx="434340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3434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D</cp:lastModifiedBy>
  <dcterms:modified xsi:type="dcterms:W3CDTF">2013-02-16T07:24:53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